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2F56-8565-4CB8-93A9-9857A622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2FC6-E1CB-47C2-8630-0222201E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5598-EDA2-4F7E-A10D-B207FE2F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D23A-CF33-4F53-BA15-F3A3302C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0867-0224-4AB0-B4C8-37873A87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C60A-15AB-457F-A34B-B33606D3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6038-7468-4ED6-AB10-DBD3B840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5E0-3186-4E43-9CB5-BE3AF73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548-D4C7-46A4-BAB9-0D27C5C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9886-F2A3-4BB2-B7B4-9DF9E654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0048-93AE-4E40-ADF3-EAF3FD3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F8BD-CC27-4B12-B071-145BF47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8212-1AB6-417A-8643-E2D89A73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42B-97FA-4E06-8252-522DAEE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C6B5-A53C-4AEE-A96D-7E78BEF0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B11-B7D1-4DA6-8B8E-113E2284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93C3-BB34-4C1B-BFDC-418B77B1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A444-AA9F-4408-AA65-F3EE4E7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B95C-F50E-4B5E-9C0F-2FCC0210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55AB-C39F-4A70-909A-1220BF7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5DB5-3BD8-4DE9-8528-9AF16A0E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7716-50E4-4838-8B2F-C169A76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29B6-ECD2-460B-A51F-E90CFFA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C1FE-9A71-4E4F-A269-65A8F2DE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FA81-5513-43A7-B27B-6C211E47B8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DC6-12CD-44B1-8A35-A2F4325822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26 continued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happy Farmer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il of the west becoming po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ou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d low-priced products, bought high-priced manufactured go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led by corpo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de up ½ population, but organiz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5210280"/>
            <a:ext cx="20574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ers Take Their Stand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 Grang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-organized by Oliver H. Kel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ter the lives of farm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range Laws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ublic control of private business for general welf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severely fough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reenback Labor Party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mbined appeal of earlier Greenbackers w/ program for improving labor condi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ulism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er’s Alli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ored Farmer’s National Alli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pulist Party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“People’s Party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ed to relieve farmer’s miser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ed to nationalize railroads, institute a graduated income tax &amp; subtreasury for farm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e &amp; unlimited coinage of sil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gnatius Donnelly, Mary Elizabeth L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llman Strik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ic of 1893 confirmed Populist belief that farmers were being mistreat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xey’s Ar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ugene V. Deb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ganized the American Railway Un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ullman Strike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ullman Palace Car Company cuts wages; workers str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 declined to support strik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veland sent federal troo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cKinley vs. Brya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ion of 189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ublican: William McKin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ed gold standar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crat: William Jennings Bry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ed unlimited coinage of silver (inflation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 of Gold Spee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1219320"/>
            <a:ext cx="146988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00800" y="4362480"/>
            <a:ext cx="2095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896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Kinley w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tes come from e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yan’s votes come from south &amp; w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era in American poli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minishing voter partic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kening of party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ding social issu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Party System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cKinley Act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ngley Tariff Bill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ew high tariff rates to generate revenue to cover Treasury defici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old Standard Act of 1900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vided paper currency to be redeemed freely in gol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1908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Long Driv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ng Drive”- TX cowboys driving herds of cattle to railroad terminal where they could be so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sh grass=profi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steaders &amp; sheepherders put up barbed wire fences so cattle could not cr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yoming Stock Growers’ Association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attle ranchers organized in order to profi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yday of the cowbo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ers’ Fronti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mestead Act of 1862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llowed a settler to acquire 160 acres of land by living on it for 5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land now given awa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couraged filling of empty spa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nd often proved inadequat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y Farming”- frequent shallow cultivation to adapt to dry environment; ended up drying out soi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ion of whe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 West Comes of 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eat West” population grow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orado admitted as a state in 1876 (after Pike’s Peak rus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89-1890, Republican cong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 new states: North Dakota, South Dakota, Montana, Washington, Idaho, Wyoming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07: Oklahoma admitted as the “Sooner State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ding Frontie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1890, frontier line no longer discerni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osing of the frontier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derick Jackson Turner’s thesis on the fronti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only a place, but a symbol for opportun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1880, area from Rocky Mtns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cific Coast was most urbanized (% of ppl. Living in citie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 Becomes a Factor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prices caused farmers to concentrate on growing single “cash crops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at, co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profits to buy food @ general store &amp; manufactured goo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scale farmers now specialists &amp; business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ed of harvesting wheat increased by invention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wine bi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mb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Farm Becomes a Fac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anization of agricultu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ove farmers off land, added to industrial work fo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door grain factory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62320" y="3940200"/>
            <a:ext cx="4462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lation Dooms the Deb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ers relied on one-crop economy, in same position as southern far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s dropped in 1880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ankruptcy @ fa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prices &amp; deflated curren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s had mortgages they could not afford b/c mortgage rates were ri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rm tenancy rather than farm ownership sprea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21:38:30Z</dcterms:created>
  <dc:creator>emily.johnson</dc:creator>
  <dc:description/>
  <dc:language>en-US</dc:language>
  <cp:lastModifiedBy>emily.johnson</cp:lastModifiedBy>
  <dcterms:modified xsi:type="dcterms:W3CDTF">2013-01-24T14:21:44Z</dcterms:modified>
  <cp:revision>5</cp:revision>
  <dc:subject/>
  <dc:title>Chapter 26 continued </dc:title>
</cp:coreProperties>
</file>